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9BDFD-1984-4FCF-969A-F8E5AB30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C2C1E-D3AC-4CE7-950E-FFA46FA9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7A591-3911-485E-A0AB-3ED77036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61C3-5CFF-4A56-9BAB-753A92EB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3618-1D26-4F9B-8ECC-C354212A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8CB9-7EE8-4BEE-B681-6F6A8F45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21FD-B5B2-4179-A6F3-B1F3E9DB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6930-5D17-4588-A05E-41D1D3C5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94AA-E317-476E-924A-9AFCE363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7FD3-E336-4693-8E50-263A8E80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B063-49B9-4FDF-AE50-8D015CEB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4B40-E5FB-41F0-8096-62ED7615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33BF-F110-4B6D-B672-5411903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23ED-3F1C-4DFC-A0E8-30E92AB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5652-8B1C-4A1D-A37E-B99B2EAF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83D2-38B7-4813-96E9-DA2CE084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BD50-1389-484F-8A56-EF8EE323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BFA5-CF0D-4311-9943-A3B189BE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30FC9-EB60-4EB6-826C-CEAAD37A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37C1-5E82-4848-AA3E-CEC53840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2A39-C647-4C15-81F2-CB10C24F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D40F-AC87-48CF-A48A-28403F3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FB2B-2F21-4469-A6E0-52F0C310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E760-B570-4FD3-8D1F-3B65AE88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E88A-3505-45FD-BFC1-00EDBCADFF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EA25-2127-4C65-8227-4E76829D7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~PP4026.WAV" TargetMode="External"/><Relationship Id="rId3" Type="http://schemas.microsoft.com/office/2007/relationships/media" Target="file:///tmp/home/.config/libreoffice/4/user/gallery/~PP402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~PP3756.WAV" TargetMode="External"/><Relationship Id="rId3" Type="http://schemas.microsoft.com/office/2007/relationships/media" Target="file:///tmp/home/.config/libreoffice/4/user/gallery/~PP37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2832.WAV" TargetMode="External"/><Relationship Id="rId3" Type="http://schemas.microsoft.com/office/2007/relationships/media" Target="file:///tmp/home/.config/libreoffice/4/user/gallery/~PP283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2845.WAV" TargetMode="External"/><Relationship Id="rId3" Type="http://schemas.microsoft.com/office/2007/relationships/media" Target="file:///tmp/home/.config/libreoffice/4/user/gallery/~PP2845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~PP672.WAV" TargetMode="External"/><Relationship Id="rId3" Type="http://schemas.microsoft.com/office/2007/relationships/media" Target="file:///tmp/home/.config/libreoffice/4/user/gallery/~PP67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~PP279.WAV" TargetMode="External"/><Relationship Id="rId3" Type="http://schemas.microsoft.com/office/2007/relationships/media" Target="file:///tmp/home/.config/libreoffice/4/user/gallery/~PP27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277.WAV" TargetMode="External"/><Relationship Id="rId3" Type="http://schemas.microsoft.com/office/2007/relationships/media" Target="file:///tmp/home/.config/libreoffice/4/user/gallery/~PP277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990.WAV" TargetMode="External"/><Relationship Id="rId3" Type="http://schemas.microsoft.com/office/2007/relationships/media" Target="file:///tmp/home/.config/libreoffice/4/user/gallery/~PP99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79.WAV" TargetMode="External"/><Relationship Id="rId3" Type="http://schemas.microsoft.com/office/2007/relationships/media" Target="file:///tmp/home/.config/libreoffice/4/user/gallery/~PP379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48.WAV" TargetMode="External"/><Relationship Id="rId3" Type="http://schemas.microsoft.com/office/2007/relationships/media" Target="file:///tmp/home/.config/libreoffice/4/user/gallery/~PP4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3736.WAV" TargetMode="External"/><Relationship Id="rId3" Type="http://schemas.microsoft.com/office/2007/relationships/media" Target="file:///tmp/home/.config/libreoffice/4/user/gallery/~PP373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~PP3437.WAV" TargetMode="External"/><Relationship Id="rId3" Type="http://schemas.microsoft.com/office/2007/relationships/media" Target="file:///tmp/home/.config/libreoffice/4/user/gallery/~PP3437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622.WAV" TargetMode="External"/><Relationship Id="rId3" Type="http://schemas.microsoft.com/office/2007/relationships/media" Target="file:///tmp/home/.config/libreoffice/4/user/gallery/~PP362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~PP3401.WAV" TargetMode="External"/><Relationship Id="rId3" Type="http://schemas.microsoft.com/office/2007/relationships/media" Target="file:///tmp/home/.config/libreoffice/4/user/gallery/~PP340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3742.WAV" TargetMode="External"/><Relationship Id="rId3" Type="http://schemas.microsoft.com/office/2007/relationships/media" Target="file:///tmp/home/.config/libreoffice/4/user/gallery/~PP374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Ich war in Australien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6781680" cy="3390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ch habe meinen kleinen Bruder gefilm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334120" cy="498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9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 hat mir gut gefall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29760" cy="510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2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ch bin in einem Flugzeug geflogen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782040" cy="5092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5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 Fluegzeug habe ich meine Bruder fotografier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51433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8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hatte das nicht so ge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5257800" cy="504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1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u sollst nach Australien geh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457200"/>
            <a:ext cx="5562360" cy="501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bin in einem Hotel geblieb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63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war in Sydn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48760" cy="5181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8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habe die Oper geseh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3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bin in Oper nicht ger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943600" cy="540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habe das Outback besichtigt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ch bin im Jeep nach kangaroos gefahre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4992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as habe ich sehr gern gemach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37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ch bin am Meer gegang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503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0:15Z</dcterms:created>
  <dc:creator>CUSD220</dc:creator>
  <dc:description/>
  <dc:language>en-US</dc:language>
  <cp:lastModifiedBy>CUSD220</cp:lastModifiedBy>
  <dcterms:modified xsi:type="dcterms:W3CDTF">2011-11-15T17:24:16Z</dcterms:modified>
  <cp:revision>4</cp:revision>
  <dc:subject/>
  <dc:title>Ich war in Australien</dc:title>
</cp:coreProperties>
</file>